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2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wmf" ContentType="image/x-wmf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404040"/>
                </a:solidFill>
                <a:latin typeface="Calibri"/>
              </a:rPr>
              <a:t>Click to move the slide</a:t>
            </a:r>
            <a:endParaRPr b="1" lang="en-US" sz="4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4FCA8-819E-4277-9E46-7AC1E6DA5658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67727-E088-49F6-B613-7BC49CA08F78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Bem, este exemplo simples dá uma dimensão de um dos problemas criados com a mistura de marcação com apresentação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 estilização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9008A-AEFA-418E-888B-1D640FE34079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A3DF-154D-4B6A-A6DE-57D246E13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12408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0F84-5281-4F70-8546-386933354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12408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529C-1B8F-4E66-BFAB-745BD4508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12408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825B-8D06-48F6-97FE-7D4345676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2408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E388-6360-4874-9A08-9D71D81AC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12408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3F5B-3C4B-4C85-AE65-8729F874D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12408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D6F9-0503-493A-9319-6AE6C6FEE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12408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88EF-AEAC-456B-BBB1-D5C66824E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124080" y="274320"/>
            <a:ext cx="5562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77C6-600A-4F0A-8BB8-D8B3C864F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2408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42D0-D47A-4BAD-9D39-C5CC4BA5D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2408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D545-F6CB-483E-8C44-00A29390A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2408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5B3A-AD38-421E-9656-F273A117D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9748E-64C0-4529-94E2-7977521EF5D8}" type="slidenum">
              <a:rPr b="0" lang="pt-BR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Straight Connector 7"/>
          <p:cNvSpPr/>
          <p:nvPr/>
        </p:nvSpPr>
        <p:spPr>
          <a:xfrm flipH="1">
            <a:off x="0" y="1417680"/>
            <a:ext cx="9144000" cy="0"/>
          </a:xfrm>
          <a:prstGeom prst="line">
            <a:avLst/>
          </a:prstGeom>
          <a:ln w="381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8" descr="Logo IFRN.jpg"/>
          <p:cNvPicPr/>
          <p:nvPr/>
        </p:nvPicPr>
        <p:blipFill>
          <a:blip r:embed="rId2"/>
          <a:stretch/>
        </p:blipFill>
        <p:spPr>
          <a:xfrm>
            <a:off x="0" y="0"/>
            <a:ext cx="3187800" cy="13921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312408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40404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Straight Connector 14"/>
          <p:cNvSpPr/>
          <p:nvPr/>
        </p:nvSpPr>
        <p:spPr>
          <a:xfrm flipH="1">
            <a:off x="6480" y="6858000"/>
            <a:ext cx="9144000" cy="0"/>
          </a:xfrm>
          <a:prstGeom prst="line">
            <a:avLst/>
          </a:prstGeom>
          <a:ln w="381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5"/>
          <p:cNvSpPr/>
          <p:nvPr/>
        </p:nvSpPr>
        <p:spPr>
          <a:xfrm flipH="1">
            <a:off x="6480" y="6730920"/>
            <a:ext cx="9144000" cy="0"/>
          </a:xfrm>
          <a:prstGeom prst="line">
            <a:avLst/>
          </a:prstGeom>
          <a:ln w="381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w3.org/" TargetMode="External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Title 3" descr=""/>
          <p:cNvPicPr/>
          <p:nvPr/>
        </p:nvPicPr>
        <p:blipFill>
          <a:blip r:embed="rId1"/>
          <a:stretch/>
        </p:blipFill>
        <p:spPr>
          <a:xfrm>
            <a:off x="682560" y="2127240"/>
            <a:ext cx="7778880" cy="14749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200" spc="-1" strike="noStrike">
                <a:solidFill>
                  <a:srgbClr val="898989"/>
                </a:solidFill>
                <a:latin typeface="Calibri"/>
              </a:rPr>
              <a:t>Introdução a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ascading Style Sheet (CS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538920" y="3546000"/>
            <a:ext cx="806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gora vamos fazer um exemplo parecido com o mostrado anteriorm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ó que com a cor vermelha e o alinhamento a esquerd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Title 3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Title 1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2"/>
          <p:cNvSpPr/>
          <p:nvPr/>
        </p:nvSpPr>
        <p:spPr>
          <a:xfrm>
            <a:off x="250920" y="1859040"/>
            <a:ext cx="86421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head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style type="text/css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 { text-align: </a:t>
            </a: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left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; color: </a:t>
            </a: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; font-family: arial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/style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/hea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p style = "font-size: 20pt"&gt;Este texto tem um estilo aplicado com relação ao tamanho da fonte: font-size 20pt.&lt;/p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8"/>
          <p:cNvSpPr/>
          <p:nvPr/>
        </p:nvSpPr>
        <p:spPr>
          <a:xfrm>
            <a:off x="158040" y="1627920"/>
            <a:ext cx="257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2 Agrupar seletor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9"/>
          <p:cNvSpPr/>
          <p:nvPr/>
        </p:nvSpPr>
        <p:spPr>
          <a:xfrm>
            <a:off x="690840" y="2564640"/>
            <a:ext cx="7776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 precisarmos de aplicar os estilos a mais do que um elemento podem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rupar os seletores que partilham as mesmas definiçõ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 isso escrevemos um seguido do outro, separando-os por vírgula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exemplo seguinte os elementos de &lt;h1&gt; até &lt;h6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ilham todos a mesma definiçã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0"/>
          <p:cNvSpPr/>
          <p:nvPr/>
        </p:nvSpPr>
        <p:spPr>
          <a:xfrm>
            <a:off x="2644560" y="5012640"/>
            <a:ext cx="385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h1,h2,h3,h4,h5,h6 { color: green 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Title 3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181800" y="1627920"/>
            <a:ext cx="274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3 Seletores de clas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0"/>
          <p:cNvSpPr/>
          <p:nvPr/>
        </p:nvSpPr>
        <p:spPr>
          <a:xfrm>
            <a:off x="891720" y="2350800"/>
            <a:ext cx="74746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s seletores de classe permitem-nos definir estilos diferentes que podem s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licados ao mesmo elemento. Imagine que precisamos ter dois tipos diferent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 parágrafo no documento: um alinhado à direita e outro alinhado ao centr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is como os seletores de classe tornam isto muito fácil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1"/>
          <p:cNvSpPr/>
          <p:nvPr/>
        </p:nvSpPr>
        <p:spPr>
          <a:xfrm>
            <a:off x="2340000" y="4005000"/>
            <a:ext cx="446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&lt;style type="text/css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       </a:t>
            </a: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p.direita { text-align: right 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       </a:t>
            </a: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p.centro { text-align: center 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&lt;/style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Title 3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181800" y="1627920"/>
            <a:ext cx="274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3 Seletores de clas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963720" y="3428640"/>
            <a:ext cx="721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&lt;p class="direita"&gt; Este parágrafo está alinhado a direita. &lt;/p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&lt;p class="centro"&gt; Este parágrafo está alinhado ao centro. &lt;/p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Title 3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81800" y="1627920"/>
            <a:ext cx="274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3 Seletores de clas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9"/>
          <p:cNvSpPr/>
          <p:nvPr/>
        </p:nvSpPr>
        <p:spPr>
          <a:xfrm>
            <a:off x="834480" y="2565000"/>
            <a:ext cx="747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s seletores de classe também podem ser definidos sem colocarmos 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ome de um elemento no início da definição. Quando isso acontece 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finições podem ser aplicadas a qualquer elemento cujo atribu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lass tenha o valor correct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0"/>
          <p:cNvSpPr/>
          <p:nvPr/>
        </p:nvSpPr>
        <p:spPr>
          <a:xfrm>
            <a:off x="2963520" y="4507920"/>
            <a:ext cx="321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.centro { text-align: center 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Title 3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181800" y="1627920"/>
            <a:ext cx="274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3 Seletores de clas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8"/>
          <p:cNvSpPr/>
          <p:nvPr/>
        </p:nvSpPr>
        <p:spPr>
          <a:xfrm>
            <a:off x="1350720" y="4430160"/>
            <a:ext cx="64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&lt;h2 class="centro"&gt; Cabeçalho alinhado ao centro &lt;/h2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9"/>
          <p:cNvSpPr/>
          <p:nvPr/>
        </p:nvSpPr>
        <p:spPr>
          <a:xfrm>
            <a:off x="2963520" y="2851920"/>
            <a:ext cx="321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.centro { text-align: center 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Title 3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180000" y="1627920"/>
            <a:ext cx="199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1.4 Seletor de id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0"/>
          <p:cNvSpPr/>
          <p:nvPr/>
        </p:nvSpPr>
        <p:spPr>
          <a:xfrm>
            <a:off x="475200" y="2420640"/>
            <a:ext cx="790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 seletor de id é diferente do seletor de classe porque se aplica a um ún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mento da página. As regras do HTML ditam que os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valores do atributo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ão podem repetir-se numa mesma págin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Daí resulta que o número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mentos no documento com um determinado id é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um ou é zer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1"/>
          <p:cNvSpPr/>
          <p:nvPr/>
        </p:nvSpPr>
        <p:spPr>
          <a:xfrm>
            <a:off x="2309760" y="5515920"/>
            <a:ext cx="452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p#para1 { text-align: center; color: red 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2"/>
          <p:cNvSpPr/>
          <p:nvPr/>
        </p:nvSpPr>
        <p:spPr>
          <a:xfrm>
            <a:off x="590760" y="4220640"/>
            <a:ext cx="7962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regra de seleção para o estilo definido no exemplo seguinte indica que e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ó pode ser aplicado a um elemento &lt;p&gt; que tenha o valor "para1"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o atributo i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Title 3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195840" y="1621800"/>
            <a:ext cx="199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4 Seletor de 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1"/>
          <p:cNvSpPr/>
          <p:nvPr/>
        </p:nvSpPr>
        <p:spPr>
          <a:xfrm>
            <a:off x="699120" y="3227040"/>
            <a:ext cx="791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&lt;p id="para1"&gt; Este parágrafo está alinhado ao centro e tem cor vermelha. &lt;/p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2"/>
          <p:cNvSpPr/>
          <p:nvPr/>
        </p:nvSpPr>
        <p:spPr>
          <a:xfrm>
            <a:off x="542160" y="270828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orre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3"/>
          <p:cNvSpPr/>
          <p:nvPr/>
        </p:nvSpPr>
        <p:spPr>
          <a:xfrm>
            <a:off x="613440" y="399888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Err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920520" y="4467240"/>
            <a:ext cx="702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510ee"/>
                </a:solidFill>
                <a:latin typeface="Arial"/>
              </a:rPr>
              <a:t>&lt;div id="para1"&gt; Este elemento não está alinhado ao centro e não te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510ee"/>
                </a:solidFill>
                <a:latin typeface="Arial"/>
              </a:rPr>
              <a:t>cor vermelha porque não é um parágrafo. &lt;/div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Title 3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180000" y="1556640"/>
            <a:ext cx="199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1.4 Seletor de id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9"/>
          <p:cNvSpPr/>
          <p:nvPr/>
        </p:nvSpPr>
        <p:spPr>
          <a:xfrm>
            <a:off x="4143960" y="242100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o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2"/>
          <p:cNvSpPr/>
          <p:nvPr/>
        </p:nvSpPr>
        <p:spPr>
          <a:xfrm>
            <a:off x="793440" y="3141000"/>
            <a:ext cx="75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 quisermos que a regra se aplique a qualquer elemento que tenha o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1 basta escrevê-la na forma seguint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3"/>
          <p:cNvSpPr/>
          <p:nvPr/>
        </p:nvSpPr>
        <p:spPr>
          <a:xfrm>
            <a:off x="2310120" y="4437000"/>
            <a:ext cx="438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#para1 { text-align: center; color: red 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4"/>
          <p:cNvSpPr/>
          <p:nvPr/>
        </p:nvSpPr>
        <p:spPr>
          <a:xfrm>
            <a:off x="374400" y="5515560"/>
            <a:ext cx="83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&lt;h1 id="para1"&gt;Esse é um exemplo centralizado e com cor vermelha.&lt;/h1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Title 3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Title 4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A forma recomendada para formatar as páginas escritas em HTML baseia-se nos padrões "Cascading Style Sheets" (</a:t>
            </a:r>
            <a:r>
              <a:rPr b="0" i="1" lang="pt-BR" sz="3200" spc="-1" strike="noStrike">
                <a:solidFill>
                  <a:srgbClr val="000000"/>
                </a:solidFill>
                <a:latin typeface="Calibri"/>
              </a:rPr>
              <a:t>folhas de estilos em cascata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), publicados pelo </a:t>
            </a:r>
            <a:r>
              <a:rPr b="0" lang="pt-BR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orld Wide Web Consortium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 (W3C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Title 1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2"/>
          <p:cNvSpPr/>
          <p:nvPr/>
        </p:nvSpPr>
        <p:spPr>
          <a:xfrm>
            <a:off x="539640" y="1773360"/>
            <a:ext cx="82803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lt;head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lt;style type="text/css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#id1 {text-align: center; color: blue; font-size: 20pt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#id2 { text-align: left; color: red; font-family: arial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lt;/style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lt;/hea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lt;h1 id="id1"&gt;Meu título&lt;/h1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lt;p id="id2"&gt;Este texto tem um estilo aplicado com relação ao tamanho da fonte: font-size 20pt.&lt;/p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58560" y="1766160"/>
            <a:ext cx="23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1.5 COMENTARIO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2"/>
          <p:cNvSpPr/>
          <p:nvPr/>
        </p:nvSpPr>
        <p:spPr>
          <a:xfrm>
            <a:off x="887760" y="2712960"/>
            <a:ext cx="736956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demos inserir comentários nas definições CSS para explicar o código qu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screvemos tornando-o mais fácil de compreender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do mais tarde voltarmos a uma folha de estilos, ou se a partilharmos co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utra pessoa, será mais fácil perceber como funcion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s comentários devem ser ignorados pelo browser, mas as versões 5 do MSI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nciona como se eles fossem definições, o que pode causar erro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r isso coloque comentários apenas em folhas de estilos que sejam lid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enas pelo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MSIE 6, pelo Netscape 7/Mozilla ou pelo Oper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Title 3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252000" y="1699560"/>
            <a:ext cx="23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5 COMENTARI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9"/>
          <p:cNvSpPr/>
          <p:nvPr/>
        </p:nvSpPr>
        <p:spPr>
          <a:xfrm>
            <a:off x="1102680" y="3057480"/>
            <a:ext cx="7006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d0d0d"/>
                </a:solidFill>
                <a:latin typeface="Arial"/>
              </a:rPr>
              <a:t>p { text-align: center;</a:t>
            </a: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 /* Isto é um comentário *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d0d0d"/>
                </a:solidFill>
                <a:latin typeface="Arial"/>
              </a:rPr>
              <a:t>     </a:t>
            </a:r>
            <a:r>
              <a:rPr b="1" lang="pt-BR" sz="1800" spc="-1" strike="noStrike">
                <a:solidFill>
                  <a:srgbClr val="0d0d0d"/>
                </a:solidFill>
                <a:latin typeface="Arial"/>
              </a:rPr>
              <a:t>color: black; </a:t>
            </a: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/* O MSIE 5 não reconhece os comentários!!!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d0d0d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d0d0d"/>
                </a:solidFill>
                <a:latin typeface="Arial"/>
              </a:rPr>
              <a:t>    </a:t>
            </a:r>
            <a:r>
              <a:rPr b="1" lang="pt-BR" sz="1800" spc="-1" strike="noStrike">
                <a:solidFill>
                  <a:srgbClr val="0d0d0d"/>
                </a:solidFill>
                <a:latin typeface="Arial"/>
              </a:rPr>
              <a:t>font-family: ari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d0d0d"/>
                </a:solidFill>
                <a:latin typeface="Arial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Title 3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4"/>
          <p:cNvSpPr/>
          <p:nvPr/>
        </p:nvSpPr>
        <p:spPr>
          <a:xfrm>
            <a:off x="118440" y="2489760"/>
            <a:ext cx="8907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Você pode definir regras de CSS em três lugares. E, por definição, pode utiliz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uma combinação dos três </a:t>
            </a: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método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nos seus web sites. A maneira como 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egras interagem entre si está relacionada à parte "em cascata"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Os três lugares sã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Em um documento separado fora de todos os documentos HTML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No cabeçalho de um documento HTML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3)  Dentro de uma tag de HTM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Title 2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8"/>
          <p:cNvSpPr/>
          <p:nvPr/>
        </p:nvSpPr>
        <p:spPr>
          <a:xfrm>
            <a:off x="649440" y="1939320"/>
            <a:ext cx="784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da um dos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étod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em um nome e afeta as páginas HTML em seu si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 um modo diferente, como discutido aqui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393840" y="3024000"/>
            <a:ext cx="835632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Externo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- Externo significa que você coloca as regras de CSS em um arquivo separado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 então sua página HTML pode fazer um link para esse arquivo. Essa abordagem l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ermite definir regras em um ou mais arquivos que podem ser aplicadas em algum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ágina do seu web si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Incorporado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- Incorporado significa que você especifica as regras de CSS no cabeçalh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do documento, dentro do elemento &lt;head&gt;. As regras incorporadas afetam somente a página atu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Inline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- Inline significa que você especifica as regras de CSS dentro da tag de HTM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ssas regras afetam somente a tag atu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Title 1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10"/>
          <p:cNvSpPr/>
          <p:nvPr/>
        </p:nvSpPr>
        <p:spPr>
          <a:xfrm>
            <a:off x="3152160" y="2060640"/>
            <a:ext cx="284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stilos em linha – in 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1"/>
          <p:cNvSpPr/>
          <p:nvPr/>
        </p:nvSpPr>
        <p:spPr>
          <a:xfrm>
            <a:off x="532800" y="2781360"/>
            <a:ext cx="8078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ão estilos aplicados a elementos de forma individual. Para declarar um esti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in line basta para isso aplicar o estilo ao atributo sty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Vejamos um exemplo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3"/>
          <p:cNvSpPr/>
          <p:nvPr/>
        </p:nvSpPr>
        <p:spPr>
          <a:xfrm>
            <a:off x="576360" y="5084640"/>
            <a:ext cx="799128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&lt;p </a:t>
            </a: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style</a:t>
            </a: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 = "</a:t>
            </a: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font-size: 20pt</a:t>
            </a: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"&gt;Este texto tem um estilo aplicado com relação ao tamanho da fonte: font-size 20pt.&lt;/p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Group 1"/>
          <p:cNvGrpSpPr/>
          <p:nvPr/>
        </p:nvGrpSpPr>
        <p:grpSpPr>
          <a:xfrm>
            <a:off x="562680" y="4292640"/>
            <a:ext cx="8029440" cy="388800"/>
            <a:chOff x="562680" y="4292640"/>
            <a:chExt cx="8029440" cy="388800"/>
          </a:xfrm>
        </p:grpSpPr>
        <p:sp>
          <p:nvSpPr>
            <p:cNvPr id="131" name="Rectangle 12"/>
            <p:cNvSpPr/>
            <p:nvPr/>
          </p:nvSpPr>
          <p:spPr>
            <a:xfrm>
              <a:off x="562680" y="4292640"/>
              <a:ext cx="5397480" cy="3682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4510ee"/>
                  </a:solidFill>
                  <a:latin typeface="Arial"/>
                </a:rPr>
                <a:t> </a:t>
              </a:r>
              <a:r>
                <a:rPr b="0" lang="pt-BR" sz="1800" spc="-1" strike="noStrike">
                  <a:solidFill>
                    <a:srgbClr val="4510ee"/>
                  </a:solidFill>
                  <a:latin typeface="Arial"/>
                </a:rPr>
                <a:t>&lt;p&gt;Este texto não tem nenhum estilo aplicado&lt;/p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 Box 14"/>
            <p:cNvSpPr/>
            <p:nvPr/>
          </p:nvSpPr>
          <p:spPr>
            <a:xfrm>
              <a:off x="6276240" y="4313160"/>
              <a:ext cx="231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Sem estilo aplicad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16"/>
            <p:cNvSpPr/>
            <p:nvPr/>
          </p:nvSpPr>
          <p:spPr>
            <a:xfrm>
              <a:off x="5992920" y="450864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4" name="Title 2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7"/>
          <p:cNvSpPr/>
          <p:nvPr/>
        </p:nvSpPr>
        <p:spPr>
          <a:xfrm>
            <a:off x="3344040" y="1916280"/>
            <a:ext cx="245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stilos Incorpor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2"/>
          <p:cNvSpPr/>
          <p:nvPr/>
        </p:nvSpPr>
        <p:spPr>
          <a:xfrm>
            <a:off x="522360" y="2492280"/>
            <a:ext cx="809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Os estilos incorporados, são estilos declarados no cabeçalho da pági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3"/>
          <p:cNvSpPr/>
          <p:nvPr/>
        </p:nvSpPr>
        <p:spPr>
          <a:xfrm>
            <a:off x="934920" y="3267360"/>
            <a:ext cx="7274160" cy="2770920"/>
          </a:xfrm>
          <a:prstGeom prst="rect">
            <a:avLst/>
          </a:prstGeom>
          <a:solidFill>
            <a:srgbClr val="ddddd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&lt;html&gt;</a:t>
            </a:r>
            <a:br>
              <a:rPr sz="1600"/>
            </a:b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  &lt;head&gt;</a:t>
            </a:r>
            <a:br>
              <a:rPr sz="1600"/>
            </a:b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       &lt;title&gt;exemplo estilos incorporados&lt;/title&gt;</a:t>
            </a:r>
            <a:br>
              <a:rPr sz="1600"/>
            </a:b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         </a:t>
            </a:r>
            <a:r>
              <a:rPr b="0" lang="pt-BR" sz="1600" spc="-1" strike="noStrike">
                <a:solidFill>
                  <a:srgbClr val="ff0000"/>
                </a:solidFill>
                <a:latin typeface="Arial"/>
              </a:rPr>
              <a:t>&lt;style type="text/css"&gt;</a:t>
            </a:r>
            <a:br>
              <a:rPr sz="1600"/>
            </a:br>
            <a:r>
              <a:rPr b="0" lang="pt-BR" sz="1600" spc="-1" strike="noStrike">
                <a:solidFill>
                  <a:srgbClr val="ff0000"/>
                </a:solidFill>
                <a:latin typeface="Arial"/>
              </a:rPr>
              <a:t>             p {background-color: red; font-family: “comic sans ms”; font-size: 14pt}</a:t>
            </a:r>
            <a:br>
              <a:rPr sz="1600"/>
            </a:br>
            <a:r>
              <a:rPr b="0" lang="pt-BR" sz="1600" spc="-1" strike="noStrike">
                <a:solidFill>
                  <a:srgbClr val="ff0000"/>
                </a:solidFill>
                <a:latin typeface="Arial"/>
              </a:rPr>
              <a:t>         &lt;/style&gt;</a:t>
            </a:r>
            <a:br>
              <a:rPr sz="1600"/>
            </a:b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   &lt;/head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&lt;body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   </a:t>
            </a: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&lt;p&gt;teste com estilo incorporado&lt;/p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&lt;/body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&lt;/html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Title 1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7"/>
          <p:cNvSpPr/>
          <p:nvPr/>
        </p:nvSpPr>
        <p:spPr>
          <a:xfrm>
            <a:off x="3586320" y="1916280"/>
            <a:ext cx="197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stilos Exter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1020600" y="2427120"/>
            <a:ext cx="710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10ee"/>
                </a:solidFill>
                <a:latin typeface="Arial"/>
              </a:rPr>
              <a:t>Os estilos externos, são estilos declarados em arquivo exter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10ee"/>
                </a:solidFill>
                <a:latin typeface="Arial"/>
              </a:rPr>
              <a:t>a pági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545040" y="3284280"/>
            <a:ext cx="8053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ara definir um conjunto de regras de estilo que você pode facilmente aplic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m alguma página do seu site, é preciso colocar as regras em um arquivo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exto. Você pode criar este arquivo com um editor de textos simples, como 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otepad do Windows, e dar ao nome desse arquivo a extensão .cs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0"/>
          <p:cNvSpPr/>
          <p:nvPr/>
        </p:nvSpPr>
        <p:spPr>
          <a:xfrm>
            <a:off x="835560" y="5065920"/>
            <a:ext cx="74898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0000"/>
                </a:solidFill>
                <a:latin typeface="Arial"/>
              </a:rPr>
              <a:t>Agora, para utilizar os estilos definidos neste arquivo .css você precisa adiciona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0000"/>
                </a:solidFill>
                <a:latin typeface="Arial"/>
              </a:rPr>
              <a:t>a tag a seguir ao cabeçalho da página, onde </a:t>
            </a:r>
            <a:r>
              <a:rPr b="1" lang="fr-FR" sz="1600" spc="-1" strike="noStrike">
                <a:solidFill>
                  <a:srgbClr val="ff0000"/>
                </a:solidFill>
                <a:latin typeface="LucidaGrande"/>
              </a:rPr>
              <a:t>meu_estilo.css</a:t>
            </a:r>
            <a:r>
              <a:rPr b="0" lang="fr-FR" sz="1600" spc="-1" strike="noStrike">
                <a:solidFill>
                  <a:srgbClr val="000000"/>
                </a:solidFill>
                <a:latin typeface="LucidaGrande"/>
              </a:rPr>
              <a:t> </a:t>
            </a:r>
            <a:r>
              <a:rPr b="0" lang="pt-BR" sz="1600" spc="-1" strike="noStrike">
                <a:solidFill>
                  <a:srgbClr val="ff0000"/>
                </a:solidFill>
                <a:latin typeface="Arial"/>
              </a:rPr>
              <a:t>é uma referên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ff0000"/>
                </a:solidFill>
                <a:latin typeface="Arial"/>
              </a:rPr>
              <a:t>absoluta ou relativa ao arquivo .cs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&lt;link rel="stylesheet" href=“css/</a:t>
            </a:r>
            <a:r>
              <a:rPr b="0" i="1" lang="pt-BR" sz="1600" spc="-1" strike="noStrike">
                <a:solidFill>
                  <a:srgbClr val="4510ee"/>
                </a:solidFill>
                <a:latin typeface="Arial"/>
              </a:rPr>
              <a:t>meu_estilo.css”</a:t>
            </a: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 type="text/css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Title 1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7"/>
          <p:cNvSpPr/>
          <p:nvPr/>
        </p:nvSpPr>
        <p:spPr>
          <a:xfrm>
            <a:off x="3586320" y="1844640"/>
            <a:ext cx="197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stilos Exter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2"/>
          <p:cNvSpPr/>
          <p:nvPr/>
        </p:nvSpPr>
        <p:spPr>
          <a:xfrm>
            <a:off x="2050920" y="3990960"/>
            <a:ext cx="6193080" cy="22842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&lt;head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&lt;title&gt;Estilo Externo&lt;/titl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1600" spc="-1" strike="noStrike">
                <a:solidFill>
                  <a:srgbClr val="0099ff"/>
                </a:solidFill>
                <a:latin typeface="Arial"/>
              </a:rPr>
              <a:t>&lt;link rel="stylesheet" href="css/estilos.css" type="text/css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&lt;/head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&lt;p&gt;Testando Estilo externo &lt;/p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ile"/>
          <p:cNvSpPr/>
          <p:nvPr/>
        </p:nvSpPr>
        <p:spPr>
          <a:xfrm>
            <a:off x="784080" y="2349360"/>
            <a:ext cx="505080" cy="358920"/>
          </a:xfrm>
          <a:custGeom>
            <a:avLst/>
            <a:gdLst>
              <a:gd name="textAreaLeft" fmla="*/ 25200 w 505080"/>
              <a:gd name="textAreaRight" fmla="*/ 482760 w 505080"/>
              <a:gd name="textAreaTop" fmla="*/ 76680 h 358920"/>
              <a:gd name="textAreaBottom" fmla="*/ 337320 h 35892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ile"/>
          <p:cNvSpPr/>
          <p:nvPr/>
        </p:nvSpPr>
        <p:spPr>
          <a:xfrm>
            <a:off x="1187280" y="3141720"/>
            <a:ext cx="505080" cy="360360"/>
          </a:xfrm>
          <a:custGeom>
            <a:avLst/>
            <a:gdLst>
              <a:gd name="textAreaLeft" fmla="*/ 25200 w 505080"/>
              <a:gd name="textAreaRight" fmla="*/ 482760 w 505080"/>
              <a:gd name="textAreaTop" fmla="*/ 77040 h 360360"/>
              <a:gd name="textAreaBottom" fmla="*/ 338760 h 36036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5"/>
          <p:cNvSpPr/>
          <p:nvPr/>
        </p:nvSpPr>
        <p:spPr>
          <a:xfrm>
            <a:off x="759960" y="2373480"/>
            <a:ext cx="52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510ee"/>
                </a:solidFill>
                <a:latin typeface="Arial"/>
              </a:rPr>
              <a:t>s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6"/>
          <p:cNvSpPr/>
          <p:nvPr/>
        </p:nvSpPr>
        <p:spPr>
          <a:xfrm>
            <a:off x="1174680" y="316404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510ee"/>
                </a:solidFill>
                <a:latin typeface="Arial"/>
              </a:rPr>
              <a:t>c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17"/>
          <p:cNvSpPr/>
          <p:nvPr/>
        </p:nvSpPr>
        <p:spPr>
          <a:xfrm>
            <a:off x="944640" y="2708280"/>
            <a:ext cx="0" cy="129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18"/>
          <p:cNvSpPr/>
          <p:nvPr/>
        </p:nvSpPr>
        <p:spPr>
          <a:xfrm>
            <a:off x="971640" y="335772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19"/>
          <p:cNvSpPr/>
          <p:nvPr/>
        </p:nvSpPr>
        <p:spPr>
          <a:xfrm>
            <a:off x="971640" y="400536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20" descr="BD18257_"/>
          <p:cNvPicPr/>
          <p:nvPr/>
        </p:nvPicPr>
        <p:blipFill>
          <a:blip r:embed="rId1"/>
          <a:stretch/>
        </p:blipFill>
        <p:spPr>
          <a:xfrm rot="10800000">
            <a:off x="1187280" y="3789000"/>
            <a:ext cx="317520" cy="415800"/>
          </a:xfrm>
          <a:prstGeom prst="rect">
            <a:avLst/>
          </a:prstGeom>
          <a:ln w="12600">
            <a:solidFill>
              <a:srgbClr val="0000ff"/>
            </a:solidFill>
            <a:miter/>
          </a:ln>
        </p:spPr>
      </p:pic>
      <p:sp>
        <p:nvSpPr>
          <p:cNvPr id="154" name="Document"/>
          <p:cNvSpPr/>
          <p:nvPr/>
        </p:nvSpPr>
        <p:spPr>
          <a:xfrm rot="10800000">
            <a:off x="2050920" y="3184200"/>
            <a:ext cx="216000" cy="360360"/>
          </a:xfrm>
          <a:custGeom>
            <a:avLst/>
            <a:gdLst>
              <a:gd name="textAreaLeft" fmla="*/ 9720 w 216000"/>
              <a:gd name="textAreaRight" fmla="*/ 206280 w 216000"/>
              <a:gd name="textAreaTop" fmla="*/ 13320 h 360360"/>
              <a:gd name="textAreaBottom" fmla="*/ 274320 h 360360"/>
            </a:gdLst>
            <a:ahLst/>
            <a:rect l="textAreaLeft" t="textAreaTop" r="textAreaRight" b="textAreaBottom"/>
            <a:pathLst>
              <a:path w="21600" h="21600">
                <a:moveTo>
                  <a:pt x="10757" y="21632"/>
                </a:moveTo>
                <a:lnTo>
                  <a:pt x="5187" y="21632"/>
                </a:lnTo>
                <a:lnTo>
                  <a:pt x="85" y="17509"/>
                </a:lnTo>
                <a:lnTo>
                  <a:pt x="85" y="10849"/>
                </a:lnTo>
                <a:lnTo>
                  <a:pt x="85" y="81"/>
                </a:lnTo>
                <a:lnTo>
                  <a:pt x="10757" y="81"/>
                </a:lnTo>
                <a:lnTo>
                  <a:pt x="21706" y="81"/>
                </a:lnTo>
                <a:lnTo>
                  <a:pt x="21706" y="10652"/>
                </a:lnTo>
                <a:lnTo>
                  <a:pt x="21706" y="21632"/>
                </a:lnTo>
                <a:lnTo>
                  <a:pt x="10757" y="21632"/>
                </a:lnTo>
                <a:close/>
              </a:path>
              <a:path w="21600" h="21600">
                <a:moveTo>
                  <a:pt x="85" y="17509"/>
                </a:moveTo>
                <a:lnTo>
                  <a:pt x="5187" y="17509"/>
                </a:lnTo>
                <a:lnTo>
                  <a:pt x="5187" y="21632"/>
                </a:lnTo>
                <a:lnTo>
                  <a:pt x="85" y="17509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22"/>
          <p:cNvSpPr/>
          <p:nvPr/>
        </p:nvSpPr>
        <p:spPr>
          <a:xfrm>
            <a:off x="1690560" y="3357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23"/>
          <p:cNvSpPr/>
          <p:nvPr/>
        </p:nvSpPr>
        <p:spPr>
          <a:xfrm>
            <a:off x="904320" y="4221000"/>
            <a:ext cx="88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0000"/>
                </a:solidFill>
                <a:latin typeface="Arial"/>
              </a:rPr>
              <a:t>Index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24"/>
          <p:cNvSpPr/>
          <p:nvPr/>
        </p:nvSpPr>
        <p:spPr>
          <a:xfrm>
            <a:off x="1691280" y="3573360"/>
            <a:ext cx="96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510ee"/>
                </a:solidFill>
                <a:latin typeface="Arial"/>
              </a:rPr>
              <a:t>estilos.c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25"/>
          <p:cNvSpPr/>
          <p:nvPr/>
        </p:nvSpPr>
        <p:spPr>
          <a:xfrm>
            <a:off x="2786760" y="3213000"/>
            <a:ext cx="1893600" cy="368280"/>
          </a:xfrm>
          <a:prstGeom prst="rect">
            <a:avLst/>
          </a:prstGeom>
          <a:noFill/>
          <a:ln w="255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 {font-size:42p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26"/>
          <p:cNvSpPr/>
          <p:nvPr/>
        </p:nvSpPr>
        <p:spPr>
          <a:xfrm>
            <a:off x="1519200" y="4076640"/>
            <a:ext cx="503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27"/>
          <p:cNvSpPr/>
          <p:nvPr/>
        </p:nvSpPr>
        <p:spPr>
          <a:xfrm>
            <a:off x="2282760" y="3400560"/>
            <a:ext cx="503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Title 1" descr=""/>
          <p:cNvPicPr/>
          <p:nvPr/>
        </p:nvPicPr>
        <p:blipFill>
          <a:blip r:embed="rId2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12"/>
          <p:cNvGrpSpPr/>
          <p:nvPr/>
        </p:nvGrpSpPr>
        <p:grpSpPr>
          <a:xfrm>
            <a:off x="539640" y="3213000"/>
            <a:ext cx="8064720" cy="1511280"/>
            <a:chOff x="539640" y="3213000"/>
            <a:chExt cx="8064720" cy="1511280"/>
          </a:xfrm>
        </p:grpSpPr>
        <p:sp>
          <p:nvSpPr>
            <p:cNvPr id="163" name="WordArt 9"/>
            <p:cNvSpPr txBox="1"/>
            <p:nvPr/>
          </p:nvSpPr>
          <p:spPr>
            <a:xfrm>
              <a:off x="755640" y="3498840"/>
              <a:ext cx="7632720" cy="361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Agora a pergunta é, porque  estilos in line ou incorporados </a:t>
              </a:r>
              <a:endPara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64" name="WordArt 10"/>
            <p:cNvSpPr txBox="1"/>
            <p:nvPr/>
          </p:nvSpPr>
          <p:spPr>
            <a:xfrm>
              <a:off x="1332000" y="4219560"/>
              <a:ext cx="6480000" cy="361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não devem ser amplamente utilizados?</a:t>
              </a:r>
              <a:endPara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65" name="Rectangle 11"/>
            <p:cNvSpPr/>
            <p:nvPr/>
          </p:nvSpPr>
          <p:spPr>
            <a:xfrm>
              <a:off x="539640" y="3213000"/>
              <a:ext cx="8064720" cy="1511280"/>
            </a:xfrm>
            <a:prstGeom prst="rect">
              <a:avLst/>
            </a:prstGeom>
            <a:noFill/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6" name="Title 1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Title 1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A grande vantagem do uso de CSS é a de separar a marcação HTML/xHTML, da apresentação do si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Em outras palavras, vale dizer que o HTML destina-se unicamente a estruturar e marcar o conteúdo, ficando por conta das CSS toda a responsabilidade pelo visual do document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Title 1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u melhor cliente telefona às 17:00h da tarde de uma sexta-feira (sempre ligam nesta hora para solicitar alguma coisa não é mesmo?) e diz o seguint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Teremos uma reunião aqui na empresa, na segunda-feira às 08h com um potencial comprador e é nossa intenção fazer uma apresentação dos nossos produtos através do site que você criou e manté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Title 1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Seguindo uma sugestão do nosso departamento de marketing precisamos mudar a cor de todos os títulos no site de verde para vermelho, pois esta é a cor principal da marca do nosso comprador e com isso pretendemos fixar uma cumplicidade sublimina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Isto é bem simples de fazer, não é? Afinal é só mudar a cor! Dá para você 'botar no ar' até às 19:30h ? Quero dar uma olhadinha antes de encerrar o expediente. OK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Title 1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Claro que você concorda e responde que vai providenciar rapidinho, afinal é só para mudar a co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Mas, são 180 páginas no site! E os títulos são tags de cabeçalho deste tipo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&lt;h1&gt;&lt;font color="#00FF00"&gt;Título&lt;/font&gt;&lt;/h1&gt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Supondo uma média de 3 títulos por página, você tem um total de 540 tags font para editar e mudar o atributo colo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E se o seu cliente tivesse pedido para mudar a cor dos textos, e do fundo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7"/>
          <p:cNvSpPr/>
          <p:nvPr/>
        </p:nvSpPr>
        <p:spPr>
          <a:xfrm>
            <a:off x="3432960" y="1916280"/>
            <a:ext cx="227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tilos conflita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25"/>
          <p:cNvSpPr/>
          <p:nvPr/>
        </p:nvSpPr>
        <p:spPr>
          <a:xfrm>
            <a:off x="700200" y="2637000"/>
            <a:ext cx="774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4510e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   </a:t>
            </a: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As folhas de estilo são em cascata (</a:t>
            </a:r>
            <a:r>
              <a:rPr b="1" i="1" lang="pt-BR" sz="1800" spc="-1" strike="noStrike">
                <a:solidFill>
                  <a:srgbClr val="4510ee"/>
                </a:solidFill>
                <a:latin typeface="Arial"/>
              </a:rPr>
              <a:t>cascading</a:t>
            </a: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), pois os element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    </a:t>
            </a: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podem ser herdados por seus ancestrais.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26"/>
          <p:cNvSpPr/>
          <p:nvPr/>
        </p:nvSpPr>
        <p:spPr>
          <a:xfrm>
            <a:off x="484200" y="3795840"/>
            <a:ext cx="817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4510e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10ee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4510ee"/>
                </a:solidFill>
                <a:latin typeface="Arial"/>
              </a:rPr>
              <a:t>Os problemas de conflitos são resolvidos através de regras aplicad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10ee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4510ee"/>
                </a:solidFill>
                <a:latin typeface="Arial"/>
              </a:rPr>
              <a:t>a herança.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27"/>
          <p:cNvSpPr/>
          <p:nvPr/>
        </p:nvSpPr>
        <p:spPr>
          <a:xfrm>
            <a:off x="617040" y="5084640"/>
            <a:ext cx="7909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Os elementos filhos tem maior especificidade, ou seja, as heranç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passadas através dos seus ancestrais são sobrepostas quan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houver conflito.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Title 1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7"/>
          <p:cNvSpPr/>
          <p:nvPr/>
        </p:nvSpPr>
        <p:spPr>
          <a:xfrm>
            <a:off x="2933640" y="1916280"/>
            <a:ext cx="334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xemplo de estilo conflit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1"/>
          <p:cNvSpPr/>
          <p:nvPr/>
        </p:nvSpPr>
        <p:spPr>
          <a:xfrm>
            <a:off x="1690560" y="2637000"/>
            <a:ext cx="5832720" cy="1372680"/>
          </a:xfrm>
          <a:prstGeom prst="rect">
            <a:avLst/>
          </a:prstGeom>
          <a:solidFill>
            <a:srgbClr val="ddddd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4510ee"/>
                </a:solidFill>
                <a:latin typeface="Arial"/>
              </a:rPr>
              <a:t> </a:t>
            </a:r>
            <a:r>
              <a:rPr b="1" lang="pt-BR" sz="1400" spc="-1" strike="noStrike">
                <a:solidFill>
                  <a:srgbClr val="4510ee"/>
                </a:solidFill>
                <a:latin typeface="Arial"/>
              </a:rPr>
              <a:t>&lt;style type = "text/css"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4510ee"/>
                </a:solidFill>
                <a:latin typeface="Arial"/>
              </a:rPr>
              <a:t>      </a:t>
            </a:r>
            <a:r>
              <a:rPr b="1" lang="pt-BR" sz="1400" spc="-1" strike="noStrike">
                <a:solidFill>
                  <a:srgbClr val="4510ee"/>
                </a:solidFill>
                <a:latin typeface="Arial"/>
              </a:rPr>
              <a:t>b { background-color: #8000ff;  color: white }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4510ee"/>
                </a:solidFill>
                <a:latin typeface="Arial"/>
              </a:rPr>
              <a:t>      </a:t>
            </a:r>
            <a:r>
              <a:rPr b="1" lang="pt-BR" sz="1400" spc="-1" strike="noStrike">
                <a:solidFill>
                  <a:srgbClr val="4510ee"/>
                </a:solidFill>
                <a:latin typeface="Arial"/>
              </a:rPr>
              <a:t>h1       { font-family: arial, sans-serif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4510ee"/>
                </a:solidFill>
                <a:latin typeface="Arial"/>
              </a:rPr>
              <a:t>      </a:t>
            </a:r>
            <a:r>
              <a:rPr b="1" lang="pt-BR" sz="1400" spc="-1" strike="noStrike">
                <a:solidFill>
                  <a:srgbClr val="4510ee"/>
                </a:solidFill>
                <a:latin typeface="Arial"/>
              </a:rPr>
              <a:t>p         { font-size: 14pt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4510ee"/>
                </a:solidFill>
                <a:latin typeface="Arial"/>
              </a:rPr>
              <a:t>      </a:t>
            </a:r>
            <a:r>
              <a:rPr b="1" lang="pt-BR" sz="1400" spc="-1" strike="noStrike">
                <a:solidFill>
                  <a:srgbClr val="4510ee"/>
                </a:solidFill>
                <a:latin typeface="Arial"/>
              </a:rPr>
              <a:t>.special { color: blue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4510ee"/>
                </a:solidFill>
                <a:latin typeface="Arial"/>
              </a:rPr>
              <a:t>   </a:t>
            </a:r>
            <a:r>
              <a:rPr b="1" lang="pt-BR" sz="1400" spc="-1" strike="noStrike">
                <a:solidFill>
                  <a:srgbClr val="4510ee"/>
                </a:solidFill>
                <a:latin typeface="Arial"/>
              </a:rPr>
              <a:t>&lt;/styl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2"/>
          <p:cNvSpPr/>
          <p:nvPr/>
        </p:nvSpPr>
        <p:spPr>
          <a:xfrm>
            <a:off x="1114560" y="4437000"/>
            <a:ext cx="6983280" cy="91692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10ee"/>
                </a:solidFill>
                <a:latin typeface="Arial"/>
              </a:rPr>
              <a:t>&lt;p class = "special"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The company's clients include man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&lt;b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tune 1000 companies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&lt;/b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10ee"/>
                </a:solidFill>
                <a:latin typeface="Arial"/>
              </a:rPr>
              <a:t>&lt;/p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3"/>
          <p:cNvSpPr/>
          <p:nvPr/>
        </p:nvSpPr>
        <p:spPr>
          <a:xfrm>
            <a:off x="1063080" y="5613480"/>
            <a:ext cx="7085880" cy="824040"/>
          </a:xfrm>
          <a:prstGeom prst="rect">
            <a:avLst/>
          </a:prstGeom>
          <a:noFill/>
          <a:ln w="22320">
            <a:solidFill>
              <a:srgbClr val="4510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Neste exemplo tanto o elemento &lt;p&gt; quanto o elemento &lt;b&gt; te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 propriedade color, no entanto a de maior grau de especificidade é 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Do elemento filho, ou seja, a cor em que o texto será mostrado será branc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Title 1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7"/>
          <p:cNvSpPr/>
          <p:nvPr/>
        </p:nvSpPr>
        <p:spPr>
          <a:xfrm>
            <a:off x="2124720" y="1989000"/>
            <a:ext cx="48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inuando com herança e especific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1"/>
          <p:cNvSpPr/>
          <p:nvPr/>
        </p:nvSpPr>
        <p:spPr>
          <a:xfrm>
            <a:off x="792000" y="2870280"/>
            <a:ext cx="7667640" cy="3257640"/>
          </a:xfrm>
          <a:prstGeom prst="rect">
            <a:avLst/>
          </a:prstGeom>
          <a:solidFill>
            <a:srgbClr val="ddddd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&lt;style type = "text/css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      </a:t>
            </a: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a.nodec  { text-decoration: none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      </a:t>
            </a: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a:hover  { text-decoration: underline;  color: red; background-color: #ccffcc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      </a:t>
            </a: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li em    { color: red; font-weight: bold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      </a:t>
            </a: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ul       { margin-left: 75px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      </a:t>
            </a: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ul ul    { text-decoration: underline; margin-left: 15px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   </a:t>
            </a: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&lt;/styl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12408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pt-BR" sz="4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7"/>
          <p:cNvSpPr/>
          <p:nvPr/>
        </p:nvSpPr>
        <p:spPr>
          <a:xfrm>
            <a:off x="3117600" y="1773360"/>
            <a:ext cx="290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ança e especific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9"/>
          <p:cNvSpPr/>
          <p:nvPr/>
        </p:nvSpPr>
        <p:spPr>
          <a:xfrm>
            <a:off x="2749680" y="2492280"/>
            <a:ext cx="35427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a.nodec  { text-decoration: none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0"/>
          <p:cNvSpPr/>
          <p:nvPr/>
        </p:nvSpPr>
        <p:spPr>
          <a:xfrm>
            <a:off x="768600" y="4149720"/>
            <a:ext cx="768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or padrão os o conteúdos de um elemento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a&gt;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são exibidos sublinh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o browser, neste caso estamos definido como </a:t>
            </a: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none</a:t>
            </a: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,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u seja, não ir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parecer da forma padrã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1"/>
          <p:cNvSpPr/>
          <p:nvPr/>
        </p:nvSpPr>
        <p:spPr>
          <a:xfrm>
            <a:off x="900000" y="3429000"/>
            <a:ext cx="7561440" cy="337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p&gt;&lt;a class = "nodec" href = "http://food.com"&gt;Go to the Grocery  store&lt;/a&gt;&lt;/p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2"/>
          <p:cNvSpPr/>
          <p:nvPr/>
        </p:nvSpPr>
        <p:spPr>
          <a:xfrm>
            <a:off x="722160" y="5516640"/>
            <a:ext cx="777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text-decoration:</a:t>
            </a: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 é utilizada para aplicar decorações ao texto dentro de 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um elemento.  Outros valores possíveis são over-line e line-throug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Title 1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7"/>
          <p:cNvSpPr/>
          <p:nvPr/>
        </p:nvSpPr>
        <p:spPr>
          <a:xfrm>
            <a:off x="2051640" y="1916280"/>
            <a:ext cx="48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ntinuando com herança e especific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2"/>
          <p:cNvSpPr/>
          <p:nvPr/>
        </p:nvSpPr>
        <p:spPr>
          <a:xfrm>
            <a:off x="647640" y="2781360"/>
            <a:ext cx="7850160" cy="368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510ee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4510ee"/>
                </a:solidFill>
                <a:latin typeface="Arial"/>
              </a:rPr>
              <a:t>a:hover  { text-decoration: underline; color: red; background-color: #ccffcc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3"/>
          <p:cNvSpPr/>
          <p:nvPr/>
        </p:nvSpPr>
        <p:spPr>
          <a:xfrm>
            <a:off x="906120" y="3573360"/>
            <a:ext cx="7331400" cy="64260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este exemplo </a:t>
            </a: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hover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é uma pseudoclasse que dá ao autor um pág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 acesso não explicitamente declara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15"/>
          <p:cNvSpPr/>
          <p:nvPr/>
        </p:nvSpPr>
        <p:spPr>
          <a:xfrm>
            <a:off x="842400" y="4652280"/>
            <a:ext cx="745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As pseudo-classes permitem-nos associar efeitos especiais a seletor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CSS ou a partes de seleto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7"/>
          <p:cNvSpPr/>
          <p:nvPr/>
        </p:nvSpPr>
        <p:spPr>
          <a:xfrm>
            <a:off x="2124720" y="1916280"/>
            <a:ext cx="48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inuando com herança e especific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8"/>
          <p:cNvSpPr/>
          <p:nvPr/>
        </p:nvSpPr>
        <p:spPr>
          <a:xfrm>
            <a:off x="647640" y="2781360"/>
            <a:ext cx="7850160" cy="368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510ee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4510ee"/>
                </a:solidFill>
                <a:latin typeface="Arial"/>
              </a:rPr>
              <a:t>a:hover  { text-decoration: underline; color: red; background-color: #ccffcc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9"/>
          <p:cNvSpPr/>
          <p:nvPr/>
        </p:nvSpPr>
        <p:spPr>
          <a:xfrm>
            <a:off x="918720" y="4076640"/>
            <a:ext cx="7331400" cy="64260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este exemplo </a:t>
            </a: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hover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é uma pseudocalsse que dá ao autor um pág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 acesso não explicitamente declara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7"/>
          <p:cNvSpPr/>
          <p:nvPr/>
        </p:nvSpPr>
        <p:spPr>
          <a:xfrm>
            <a:off x="2051640" y="1916280"/>
            <a:ext cx="48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inuando com herança e especific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1"/>
          <p:cNvSpPr/>
          <p:nvPr/>
        </p:nvSpPr>
        <p:spPr>
          <a:xfrm>
            <a:off x="971640" y="3500280"/>
            <a:ext cx="79930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a:link { color: #003395; font-weight: bold; fonte-size: 10pt; text-decoration: none; 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a:visited { color: #003390; text-decoration: none; font-weight: bold;  fonte-size: 10pt;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a:active { color: #444444; text-decoration: none; font-weight: bold;  fonte-size: 10pt;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2"/>
          <p:cNvSpPr/>
          <p:nvPr/>
        </p:nvSpPr>
        <p:spPr>
          <a:xfrm>
            <a:off x="1635120" y="5373720"/>
            <a:ext cx="6051240" cy="368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riem uma página com um link e verifiquem os result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4"/>
          <p:cNvSpPr/>
          <p:nvPr/>
        </p:nvSpPr>
        <p:spPr>
          <a:xfrm>
            <a:off x="3059280" y="2708280"/>
            <a:ext cx="3024000" cy="36828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Ouras Pseudocla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504000" y="1946160"/>
            <a:ext cx="813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1.1 A sintaxe C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sintaxe das definições CSS é composta por duas partes: um selector e um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claração. Vejamos um exemplo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1" descr="Uma regra CSS"/>
          <p:cNvPicPr/>
          <p:nvPr/>
        </p:nvPicPr>
        <p:blipFill>
          <a:blip r:embed="rId1"/>
          <a:stretch/>
        </p:blipFill>
        <p:spPr>
          <a:xfrm>
            <a:off x="2592360" y="4017960"/>
            <a:ext cx="3959280" cy="1085760"/>
          </a:xfrm>
          <a:prstGeom prst="rect">
            <a:avLst/>
          </a:prstGeom>
          <a:ln w="0">
            <a:noFill/>
          </a:ln>
        </p:spPr>
      </p:pic>
      <p:pic>
        <p:nvPicPr>
          <p:cNvPr id="60" name="Title 3" descr=""/>
          <p:cNvPicPr/>
          <p:nvPr/>
        </p:nvPicPr>
        <p:blipFill>
          <a:blip r:embed="rId2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7"/>
          <p:cNvSpPr/>
          <p:nvPr/>
        </p:nvSpPr>
        <p:spPr>
          <a:xfrm>
            <a:off x="1980360" y="1916280"/>
            <a:ext cx="48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inuando com herança e especific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2"/>
          <p:cNvSpPr/>
          <p:nvPr/>
        </p:nvSpPr>
        <p:spPr>
          <a:xfrm>
            <a:off x="2139480" y="2717280"/>
            <a:ext cx="4693320" cy="916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A sintaxe das pseudo-class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selector:pseudo-classe { propriedade: valor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3"/>
          <p:cNvSpPr/>
          <p:nvPr/>
        </p:nvSpPr>
        <p:spPr>
          <a:xfrm>
            <a:off x="1058400" y="4374720"/>
            <a:ext cx="7055640" cy="916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As classes CSS também podem ser utilizadas com pseudo-class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selector.classe:pseudo-classe { propriedade: valor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7"/>
          <p:cNvSpPr/>
          <p:nvPr/>
        </p:nvSpPr>
        <p:spPr>
          <a:xfrm>
            <a:off x="2051640" y="1766880"/>
            <a:ext cx="48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ntinuando com herança e especific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1"/>
          <p:cNvSpPr/>
          <p:nvPr/>
        </p:nvSpPr>
        <p:spPr>
          <a:xfrm>
            <a:off x="2824920" y="2420280"/>
            <a:ext cx="349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Pseudo-classes para ligaçõ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2"/>
          <p:cNvSpPr/>
          <p:nvPr/>
        </p:nvSpPr>
        <p:spPr>
          <a:xfrm>
            <a:off x="676800" y="3141000"/>
            <a:ext cx="7790040" cy="916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s  ligações (links) tem estado ativo, já visitadas, não visitadas, ou que 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ncontram sob o ponteiro do mouse podem ser apresentadas com cores 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stilos diferent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3"/>
          <p:cNvSpPr/>
          <p:nvPr/>
        </p:nvSpPr>
        <p:spPr>
          <a:xfrm>
            <a:off x="1350000" y="4592160"/>
            <a:ext cx="6418440" cy="10674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:link { color: #FF0000 } /* link ainda não visitado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:visited { color: #00FF00 } /* link já visitado *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:hover { color: #FF00FF } /* link que está sob o ponteiro do mouse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:active { color: #0000FF } /* link selecionado *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7"/>
          <p:cNvSpPr/>
          <p:nvPr/>
        </p:nvSpPr>
        <p:spPr>
          <a:xfrm>
            <a:off x="2051640" y="1916280"/>
            <a:ext cx="48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inuando com herança e especific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2824920" y="2636280"/>
            <a:ext cx="349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Pseudo-classes para ligaçõ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12"/>
          <p:cNvSpPr/>
          <p:nvPr/>
        </p:nvSpPr>
        <p:spPr>
          <a:xfrm>
            <a:off x="708120" y="3440520"/>
            <a:ext cx="7727400" cy="28371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Notas: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Para funcionar bem, a:hover deve ser definido depois de a:link 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a:visited já estarem definid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Para funcionar bem, a:active deve ser definido depois de a:hov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Os nomes das pseudo-classes são insensíveis ao tipo de letra. Pode us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maiúsculas ou minúsculas indistintamen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7"/>
          <p:cNvSpPr/>
          <p:nvPr/>
        </p:nvSpPr>
        <p:spPr>
          <a:xfrm>
            <a:off x="2113560" y="1978200"/>
            <a:ext cx="48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ntinuando com herança e especific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9"/>
          <p:cNvSpPr/>
          <p:nvPr/>
        </p:nvSpPr>
        <p:spPr>
          <a:xfrm>
            <a:off x="3607920" y="2698200"/>
            <a:ext cx="19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Pseudo-cla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11"/>
          <p:cNvSpPr/>
          <p:nvPr/>
        </p:nvSpPr>
        <p:spPr>
          <a:xfrm>
            <a:off x="840240" y="3577320"/>
            <a:ext cx="7441200" cy="228420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s pseudo-classes podem ser combinadas com classes CSS definidas n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ágin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.red:visited { color: #FF0000 } </a:t>
            </a: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&lt;a class="red" href="pagina.html"&gt;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u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ágina&lt;a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0000"/>
                </a:solidFill>
                <a:latin typeface="Arial"/>
              </a:rPr>
              <a:t>Se a ligação do exemplo anterior já tiver sido clicada (visitada) o texto aparecer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0000"/>
                </a:solidFill>
                <a:latin typeface="Arial"/>
              </a:rPr>
              <a:t>na cor vermelh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7"/>
          <p:cNvSpPr/>
          <p:nvPr/>
        </p:nvSpPr>
        <p:spPr>
          <a:xfrm>
            <a:off x="2124720" y="1916280"/>
            <a:ext cx="48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ntinuando com herança e especific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9"/>
          <p:cNvSpPr/>
          <p:nvPr/>
        </p:nvSpPr>
        <p:spPr>
          <a:xfrm>
            <a:off x="901080" y="2774160"/>
            <a:ext cx="324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 pseudo-classe :first-child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1"/>
          <p:cNvSpPr/>
          <p:nvPr/>
        </p:nvSpPr>
        <p:spPr>
          <a:xfrm>
            <a:off x="905400" y="3429360"/>
            <a:ext cx="77094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viso: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Esta pseudo-classe ainda não é bem suportada pelos browsers. Não 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utilize porque não irá obter os resultados que pretend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 pseudo-classe :first-child afeta o primeiro dos elementos (primeiro descendente.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que se encontra dentro de um outro element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7"/>
          <p:cNvSpPr/>
          <p:nvPr/>
        </p:nvSpPr>
        <p:spPr>
          <a:xfrm>
            <a:off x="2051640" y="1916280"/>
            <a:ext cx="48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ntinuando com herança e especific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9"/>
          <p:cNvSpPr/>
          <p:nvPr/>
        </p:nvSpPr>
        <p:spPr>
          <a:xfrm>
            <a:off x="1036080" y="2990160"/>
            <a:ext cx="267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A pseudo-classe :lang</a:t>
            </a: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1"/>
          <p:cNvSpPr/>
          <p:nvPr/>
        </p:nvSpPr>
        <p:spPr>
          <a:xfrm>
            <a:off x="1134360" y="4071240"/>
            <a:ext cx="7433640" cy="64260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pseudo-classe </a:t>
            </a: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:lang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permite ao autor especificar a língua usada n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ocumento ou num determinado elemen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7"/>
          <p:cNvSpPr/>
          <p:nvPr/>
        </p:nvSpPr>
        <p:spPr>
          <a:xfrm>
            <a:off x="2051640" y="1916280"/>
            <a:ext cx="48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ntinuando com herança e especific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1042920" y="3417840"/>
          <a:ext cx="7288200" cy="2286000"/>
        </p:xfrm>
        <a:graphic>
          <a:graphicData uri="http://schemas.openxmlformats.org/drawingml/2006/table">
            <a:tbl>
              <a:tblPr/>
              <a:tblGrid>
                <a:gridCol w="1584360"/>
                <a:gridCol w="570384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seudo-class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dcdcd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inalida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cdcd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ti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dcdcd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fine o estilo a aplicar a um link seleciona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cdcd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o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dcdcd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fine o estilo a aplicar a um link quando o ponteiro do mouse está sobre e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cdcd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in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dcdcd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fine o estilo a aplicar a um link que ainda não foi visita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cdcd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isit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dcdcd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fine o estilo a aplicar a um link que já foi visita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cdcd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irst-chil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dcdcd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fine o estilo a aplicar ao primeiro descendent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cdcd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a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dcdcd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rmite definir atributos estilísticos diferentes para aplicar ao texto escrito numa determinada língua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cdcd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4" name="Rectangle 174"/>
          <p:cNvSpPr/>
          <p:nvPr/>
        </p:nvSpPr>
        <p:spPr>
          <a:xfrm>
            <a:off x="3566520" y="2630520"/>
            <a:ext cx="19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Pseudo-cla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7"/>
          <p:cNvSpPr/>
          <p:nvPr/>
        </p:nvSpPr>
        <p:spPr>
          <a:xfrm>
            <a:off x="2051640" y="1916280"/>
            <a:ext cx="48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ntinuando com herança e especific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36"/>
          <p:cNvSpPr/>
          <p:nvPr/>
        </p:nvSpPr>
        <p:spPr>
          <a:xfrm>
            <a:off x="2556000" y="2708280"/>
            <a:ext cx="4103640" cy="368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510ee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4510ee"/>
                </a:solidFill>
                <a:latin typeface="Arial"/>
              </a:rPr>
              <a:t>li em    { color: red;  font-weight: bold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37"/>
          <p:cNvSpPr/>
          <p:nvPr/>
        </p:nvSpPr>
        <p:spPr>
          <a:xfrm>
            <a:off x="987840" y="4005360"/>
            <a:ext cx="7549200" cy="916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este exemplo o que temos é que os elementos </a:t>
            </a: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em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que se encontrar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ntidos em um elemento </a:t>
            </a: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li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irão herdar o estilo aplicado a </a:t>
            </a: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li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or: red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nt-weight: bold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7"/>
          <p:cNvSpPr/>
          <p:nvPr/>
        </p:nvSpPr>
        <p:spPr>
          <a:xfrm>
            <a:off x="2051640" y="1916280"/>
            <a:ext cx="48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ntinuando com herança e especific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9"/>
          <p:cNvSpPr/>
          <p:nvPr/>
        </p:nvSpPr>
        <p:spPr>
          <a:xfrm>
            <a:off x="1403280" y="2637000"/>
            <a:ext cx="6193080" cy="368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510ee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4510ee"/>
                </a:solidFill>
                <a:latin typeface="Arial"/>
              </a:rPr>
              <a:t>ul ul    { text-decoration: underline;  margin-left: 15px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0"/>
          <p:cNvSpPr/>
          <p:nvPr/>
        </p:nvSpPr>
        <p:spPr>
          <a:xfrm>
            <a:off x="932040" y="4005360"/>
            <a:ext cx="8029080" cy="916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este exemplo o que temos é que os elementos </a:t>
            </a: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ul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que se encontrar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ntidos em um elemento </a:t>
            </a: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ul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irão herdar o estilo aplicado a </a:t>
            </a: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li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4510ee"/>
                </a:solidFill>
                <a:latin typeface="Arial"/>
              </a:rPr>
              <a:t>text-decorati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510ee"/>
                </a:solidFill>
                <a:latin typeface="Arial"/>
              </a:rPr>
              <a:t>underline;  margin-left: 15p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)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7" descr="Uma regra CSS"/>
          <p:cNvPicPr/>
          <p:nvPr/>
        </p:nvPicPr>
        <p:blipFill>
          <a:blip r:embed="rId1"/>
          <a:stretch/>
        </p:blipFill>
        <p:spPr>
          <a:xfrm>
            <a:off x="2916360" y="1844640"/>
            <a:ext cx="3311280" cy="90792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8"/>
          <p:cNvSpPr/>
          <p:nvPr/>
        </p:nvSpPr>
        <p:spPr>
          <a:xfrm>
            <a:off x="316080" y="3062160"/>
            <a:ext cx="85118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este exemplo o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selector H1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diz que o estilo se aplica a elementos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&lt;h1&gt;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 a definição diz que a cor do texto destes elementos deve ser verde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("green"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declaração fica entre chaves (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{...}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) e pode conter várias definiçõ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ada definição é formada por um par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ropriedade:valor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, em que o valor é separado da propriedade pelo carácter : (dois pontos.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linha seguinte ilustra isto de forma genéric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selector { propriedade: valor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Title 3" descr=""/>
          <p:cNvPicPr/>
          <p:nvPr/>
        </p:nvPicPr>
        <p:blipFill>
          <a:blip r:embed="rId2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9"/>
          <p:cNvSpPr/>
          <p:nvPr/>
        </p:nvSpPr>
        <p:spPr>
          <a:xfrm>
            <a:off x="1058040" y="1902600"/>
            <a:ext cx="7027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O exemplo seguinte permite-lhe experimentar isto de imedia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html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head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style type="text/css"&gt; H1 { color: green } &lt;/style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/head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body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H1&gt;Este cabeçalho tem cor verde&lt;/H1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/body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/html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Title 3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9"/>
          <p:cNvSpPr/>
          <p:nvPr/>
        </p:nvSpPr>
        <p:spPr>
          <a:xfrm>
            <a:off x="310320" y="3453120"/>
            <a:ext cx="8523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510ee"/>
                </a:solidFill>
                <a:latin typeface="Arial"/>
              </a:rPr>
              <a:t>O seletor é normalmente o nome de um elemento do HTML, mas també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510ee"/>
                </a:solidFill>
                <a:latin typeface="Arial"/>
              </a:rPr>
              <a:t>pode ser um seletor de classe, um seletor de ID ou um seletor contextu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510ee"/>
                </a:solidFill>
                <a:latin typeface="Arial"/>
              </a:rPr>
              <a:t>(estes conceitos serão esclarecidos mais à frente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WordArt 10"/>
          <p:cNvSpPr txBox="1"/>
          <p:nvPr/>
        </p:nvSpPr>
        <p:spPr>
          <a:xfrm>
            <a:off x="3564000" y="2205000"/>
            <a:ext cx="2016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IC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68" name="Title 3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9"/>
          <p:cNvSpPr/>
          <p:nvPr/>
        </p:nvSpPr>
        <p:spPr>
          <a:xfrm>
            <a:off x="684360" y="1915560"/>
            <a:ext cx="777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 o valor que queremos dar à propriedade tiver mais do que uma palav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mos colocá-lo entre aspas, como se mostra a segui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0"/>
          <p:cNvSpPr/>
          <p:nvPr/>
        </p:nvSpPr>
        <p:spPr>
          <a:xfrm>
            <a:off x="501120" y="2912040"/>
            <a:ext cx="8142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html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head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style type="text/css"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 { font-family: "comic sans ms" 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/style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/head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p&gt; O texto deste parágrafo tem tipo de letra "comic sans ms". &lt;/p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/body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/html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Title 3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9"/>
          <p:cNvSpPr/>
          <p:nvPr/>
        </p:nvSpPr>
        <p:spPr>
          <a:xfrm>
            <a:off x="437760" y="1577880"/>
            <a:ext cx="83034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ntro das chaves (caracteres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...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) podemos colocar várias definiçõ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eparadas pelo caractere ";" (ponto e vírgula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exemplo seguinte define três propriedades para o elemento &lt;p&gt;, que sã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alinhamento, a cor do texto e o tipo de let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head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style type="text/css"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 { text-align: center; color: green; font-family: arial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/style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/hea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body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p&gt; O texto deste parágrafo tem tipo de letra "arial", cor verde e está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linhado ao centro. &lt;/p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/body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/html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Title 3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3T11:09:12Z</dcterms:created>
  <dc:creator>Ricardo Medeiros</dc:creator>
  <dc:description/>
  <dc:language>en-US</dc:language>
  <cp:lastModifiedBy>Moisés Souto</cp:lastModifiedBy>
  <dcterms:modified xsi:type="dcterms:W3CDTF">2013-04-03T23:27:29Z</dcterms:modified>
  <cp:revision>319</cp:revision>
  <dc:subject/>
  <dc:title>Slide 1</dc:title>
</cp:coreProperties>
</file>